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535E6-E063-4B68-8778-1FEE03A01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50B88-5F8E-4927-938D-1AD9B67EF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22657-ED51-43DD-AD99-50F1B0F69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5E6F3-ADE4-4234-8AEB-4CA88789B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932C3-D7AB-42E2-B241-FC17045487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52AEA-67B7-4CF2-9429-8578D857B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3DE58-AF06-4949-ACE8-A9C8EA381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CDD10-E9B2-4A2B-9647-4E76C3DE3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44F1B-046A-492E-998B-13544FED4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7E137-5B80-4613-809F-5442C059B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F7428-0DCC-4652-BFF4-9B377FF6F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70E5E-7BD7-4F57-9E94-14CD9BD1C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EB27F-6C0B-405D-A534-F0431054C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4708C-1763-47ED-BF15-C1D5273E6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AAD6D-F71F-4C95-939B-84A7A5F9A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2EDEBE-9E51-4C78-8E57-795EB61E3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B2C86-7C21-4174-B303-AEFE14F771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5CC86-B08F-4B85-BF17-F3BF07838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74FDC-4486-4511-9BC1-F8E1BD1F1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4A2E6-9082-4727-ADBA-4F89481CA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580A6-AD86-4795-835B-23E6536B7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137FF-D830-4E7A-9EB2-42AFCF39F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CA3EF-9A66-4CC2-9771-5FB4CA2CD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FE281-820F-4B37-B3ED-0E410AFED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D8CA-6F11-400F-80E0-5176B2BB1BF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7312-A552-4959-BF6D-3FF463A2BF5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Excellence in Independent Investigation Required by </a:t>
            </a:r>
            <a:br>
              <a:rPr sz="4000"/>
            </a:br>
            <a:r>
              <a:rPr b="1" lang="en-US" sz="4000" spc="-1" strike="noStrike">
                <a:solidFill>
                  <a:srgbClr val="003366"/>
                </a:solidFill>
                <a:latin typeface="Arial"/>
              </a:rPr>
              <a:t>CJD 04-06</a:t>
            </a:r>
            <a:endParaRPr b="1" lang="en-US" sz="4000" spc="-1" strike="noStrike">
              <a:solidFill>
                <a:srgbClr val="006666"/>
              </a:solidFill>
              <a:latin typeface="Arial"/>
            </a:endParaRPr>
          </a:p>
        </p:txBody>
      </p:sp>
      <p:sp>
        <p:nvSpPr>
          <p:cNvPr id="96" name="PlaceHolder 1"/>
          <p:cNvSpPr>
            <a:spLocks noGrp="1"/>
          </p:cNvSpPr>
          <p:nvPr>
            <p:ph type="subTitle"/>
          </p:nvPr>
        </p:nvSpPr>
        <p:spPr>
          <a:xfrm>
            <a:off x="4647960" y="2743200"/>
            <a:ext cx="3733560" cy="1905120"/>
          </a:xfrm>
          <a:prstGeom prst="rect">
            <a:avLst/>
          </a:prstGeom>
          <a:noFill/>
          <a:ln w="0">
            <a:noFill/>
          </a:ln>
        </p:spPr>
        <p:txBody>
          <a:bodyPr anchor="b">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Fulfilling CJD Requirements</a:t>
            </a:r>
            <a:endParaRPr b="0" lang="en-US" sz="2000" spc="-1" strike="noStrike">
              <a:solidFill>
                <a:srgbClr val="003366"/>
              </a:solidFill>
              <a:latin typeface="Arial"/>
            </a:endParaRPr>
          </a:p>
          <a:p>
            <a:pPr algn="ctr">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Best Practices</a:t>
            </a:r>
            <a:endParaRPr b="0" lang="en-US" sz="2000" spc="-1" strike="noStrike">
              <a:solidFill>
                <a:srgbClr val="003366"/>
              </a:solidFill>
              <a:latin typeface="Arial"/>
            </a:endParaRPr>
          </a:p>
        </p:txBody>
      </p:sp>
      <p:sp>
        <p:nvSpPr>
          <p:cNvPr id="97" name="Text Box 4"/>
          <p:cNvSpPr/>
          <p:nvPr/>
        </p:nvSpPr>
        <p:spPr>
          <a:xfrm>
            <a:off x="5334120" y="5486400"/>
            <a:ext cx="30477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Kurt Metsger, Esq. (Denver)</a:t>
            </a:r>
            <a:endParaRPr b="0" lang="en-US" sz="1600" spc="-1" strike="noStrike">
              <a:solidFill>
                <a:srgbClr val="0033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eth Padilla, Esq. (Durango)</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JD 04-06: GAL Responsibilities</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Confirm that the county department’s investigation has included a diligent search for any prospective kinship placement and/or adoption or potential tribal affiliation, or independently conduct such investigation, in the event these attempts to reunify fail.” CJD 04-06(V)(D)(4)(f)</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o is a Relative/Kin?</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Kin are relatives, persons ascribed by the family as having a family-like relationship, or they may be individuals that have a prior significant relationship with the child or youth. These relationships take into account cultural values and continuity of significant relationships.” 7.304.21(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Affidavit</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The court shall order the parents to complete the form affidavit and advisement described in subparagraph (I) of this paragraph (a) no later than seven business days after the date of the hearing or prior to the next hearing on the matter, whichever occurs firs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original completed form shall be filed with the court, and a copy delivered to the county department of human or social services no later than five business days after the date of the hearing.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ch parent may suggest an adult relative or relatives whom he or she believes to be the most appropriate caretaker or caretakers for the child.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urt shall order each parent to notify every relative who may be an appropriate relative caretaker for the child that failure to come forward in a timely manner may result in the child being placed permanently outside of the home of the child's relatives, if the child is not able to return to the child's home.” C.R.S. § 19-3-403(3.6)(a)(II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Affidavit</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DF 559</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practices for completing affidavi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should the GAL do with the affidav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dentifying Relatives: Interviews</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o should the GAL interview?</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people in court &amp; at FEM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questions should GALs ask respondent paren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s’ Background Checks</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The county department shall share with the guardian </a:t>
            </a:r>
            <a:r>
              <a:rPr b="0" i="1" lang="en-US" sz="2800" spc="-1" strike="noStrike">
                <a:solidFill>
                  <a:srgbClr val="003366"/>
                </a:solidFill>
                <a:latin typeface="Arial"/>
              </a:rPr>
              <a:t>ad litem</a:t>
            </a:r>
            <a:r>
              <a:rPr b="0" lang="en-US" sz="2800" spc="-1" strike="noStrike">
                <a:solidFill>
                  <a:srgbClr val="003366"/>
                </a:solidFill>
                <a:latin typeface="Arial"/>
              </a:rPr>
              <a:t> the reports of fingerprint-based criminal history record checks from the Colorado bureau of investigation and from the federal bureau of investigation if the court orders the county department to share that information with the guardian </a:t>
            </a:r>
            <a:r>
              <a:rPr b="0" i="1" lang="en-US" sz="2800" spc="-1" strike="noStrike">
                <a:solidFill>
                  <a:srgbClr val="003366"/>
                </a:solidFill>
                <a:latin typeface="Arial"/>
              </a:rPr>
              <a:t>ad litem</a:t>
            </a:r>
            <a:r>
              <a:rPr b="0" lang="en-US" sz="2800" spc="-1" strike="noStrike">
                <a:solidFill>
                  <a:srgbClr val="003366"/>
                </a:solidFill>
                <a:latin typeface="Arial"/>
              </a:rPr>
              <a:t>.” </a:t>
            </a:r>
            <a:r>
              <a:rPr b="1" lang="en-US" sz="2800" spc="-1" strike="noStrike">
                <a:solidFill>
                  <a:srgbClr val="003366"/>
                </a:solidFill>
                <a:latin typeface="Arial"/>
              </a:rPr>
              <a:t>C.R.S. § 19-2-203(2)</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CPC</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up with relativ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ch out to ICPC work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7T16:58:22Z</dcterms:created>
  <dc:creator>Beth Padilla</dc:creator>
  <dc:description/>
  <dc:language>en-US</dc:language>
  <cp:lastModifiedBy>Melinda Taylor</cp:lastModifiedBy>
  <dcterms:modified xsi:type="dcterms:W3CDTF">2017-08-18T19:40:53Z</dcterms:modified>
  <cp:revision>5</cp:revision>
  <dc:subject/>
  <dc:title>Diligent Search &amp; Relative Engagement</dc:title>
</cp:coreProperties>
</file>